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951-2BF9-427A-9FDF-141A3DDA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C3D-BA4F-4D4B-82CD-50A1134E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069-93F3-4BD8-B48A-4CE8912C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6DF-4ECF-4F05-8385-70F4E46B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63C-9C0A-4FA6-B515-7EFFC2AA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CA6-EC05-4224-B02E-6A5695C2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DB8-4B1B-4CEE-A160-BFC4C15A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EAA-6E73-452D-96A6-6D1148E6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57F-A552-47C7-BF4F-AC67C1A8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075-866A-4687-A48F-5EEA3DFC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C89-99E5-46B3-93C6-85DD92BD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5B5-1022-4FA5-A8FB-2987BEB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9BDC-F9E0-4196-AAD2-452D9596ECB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7 Má Pán Ježiš, má mňa rá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ísme svätom dal to zn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ateľom on detí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ými s láskou bdi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ísme svätom dal to zn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mňa má, to dobre vi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e, keď ochori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Lekár láskav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skoro ma uzdra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ísme svätom dal to zn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mňa má, je Pastier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mňa nespustí zrak svo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mu verný zostan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ý život dosta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ísme svätom dal to znať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42:01Z</dcterms:modified>
  <cp:revision>79</cp:revision>
  <dc:subject/>
  <dc:title>Je veľký náš Pán, on slávy je Kráľ Nech do všetkých strán  spev vrúcnych znie chvál.</dc:title>
</cp:coreProperties>
</file>